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DB3-888F-4FA1-B948-B31955F8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6EB-F89F-4CBC-A7F4-E2C2CF4F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7BD-AD48-431F-83F4-7C16A5C3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05F-DFE3-4E3A-AF60-98974F79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A598-9461-4A76-8107-3F77E4DB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AC2D-E5BC-4A67-B0AD-13FD60A8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D5D2-BB93-4091-B1EB-D20E115E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0533-4F84-405E-8E7E-AE427689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EECF-B012-49FA-9FEB-EEC75E9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8338-53C7-4FCB-8F1A-B8C1F1F5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91B8-BFC0-4784-9905-CB6FE950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93E-5391-459C-8BED-B5E47B1F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D92B-5E08-476C-A29B-0C974AC8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B7DF-040A-452E-9677-396AFB5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7AD9-769A-4E50-84E1-E4D2F0C5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3863-4182-4DB0-9844-1E338861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D9E9-9E5B-4A5C-88D4-7D234241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8A1-6F8C-41A2-804E-83084C50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D94-F46C-4569-9FB7-A59E5D6F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71E-AB4E-4579-ADE9-367A6651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102-9C55-446C-AACF-6963FE11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4E2-6168-46D2-8651-B1A7EE67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010-3353-49B5-8F73-6203E69C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CDD-0ABD-480A-8B04-7A63B2EA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FCE20-32FE-46D9-A3AF-18D4A1CE66C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0E96B-0F32-4E1A-B9F6-EE245D66A92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nuteme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By Alex L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o were the Minutemen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793908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minutemen were a group of hand picked men elite force of militia who would get together and fight in a matter of minutes notice to defend their property and peop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 February of 1775, Concord was one of the first towns to follow the orders to create minutemen. They consisted of around one-hundred militia me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he difference between Minutemen and Milit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7204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militia were men who formed to protect their towns from foreign invas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nutemen were a small hand-picked elite force of militia men who were chosen for their enthusiasm, reliability, and physical strength. They were usually around twenty-five years of age or young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at about their Weapons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minutemen were armed with muskets and whatever weapons they could find and make their own bullets. They stored their weapons at Concor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British were armed with muskets and a bayonet. It was very hard for the minutemen to defeat the British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ere there such Military forces like this before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Yes. Minutemen were used early in the Massachusetts Bay Colony. . Around the mid 1600's, men were chosen from the militia ranks to be dressed with pikes and accoutrement's within half an hour of being warned. Minute Men also played a role in the French and Indian Wa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redi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These are the websites I got  my information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Gay, Kathyln, and Martin Gay. </a:t>
            </a:r>
            <a:r>
              <a:rPr b="0" i="1" lang="en-US" sz="1600" spc="-1" strike="noStrike">
                <a:solidFill>
                  <a:srgbClr val="595959"/>
                </a:solidFill>
                <a:latin typeface="News Gothic MT"/>
              </a:rPr>
              <a:t>Revolutionary War</a:t>
            </a: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. New York: Henry Holt, 1995.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Print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Joyce Graciela Stellick. </a:t>
            </a:r>
            <a:r>
              <a:rPr b="0" i="1" lang="en-US" sz="1600" spc="-1" strike="noStrike">
                <a:solidFill>
                  <a:srgbClr val="595959"/>
                </a:solidFill>
                <a:latin typeface="News Gothic MT"/>
              </a:rPr>
              <a:t>Minutemen VS. "Minutemen."</a:t>
            </a: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 La-Mano, 1 Apr. 2005. Web.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10 Apr. 2011. &lt;http://dir.groups.yahoo.com/group/la-mano/message/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1318&gt;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"Minute Men." </a:t>
            </a:r>
            <a:r>
              <a:rPr b="0" i="1" lang="en-US" sz="1600" spc="-1" strike="noStrike">
                <a:solidFill>
                  <a:srgbClr val="595959"/>
                </a:solidFill>
                <a:latin typeface="News Gothic MT"/>
              </a:rPr>
              <a:t>http://www.ushistory.org/people/minutemen.htm</a:t>
            </a: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. Independence Hall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Association, 5 July 1995. Web. 7 Apr. 2011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Rotherfield House. </a:t>
            </a:r>
            <a:r>
              <a:rPr b="0" i="1" lang="en-US" sz="1600" spc="-1" strike="noStrike">
                <a:solidFill>
                  <a:srgbClr val="595959"/>
                </a:solidFill>
                <a:latin typeface="News Gothic MT"/>
              </a:rPr>
              <a:t>The Battle of Concord and Lexington 1775</a:t>
            </a: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. British Battles, 1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Jan. 2010. Web. 11 Apr. 2011. &lt;http://www.britishbattles.com/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concord-lexington.htm&gt;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Vitale, Don. </a:t>
            </a:r>
            <a:r>
              <a:rPr b="0" i="1" lang="en-US" sz="1600" spc="-1" strike="noStrike">
                <a:solidFill>
                  <a:srgbClr val="595959"/>
                </a:solidFill>
                <a:latin typeface="News Gothic MT"/>
              </a:rPr>
              <a:t>Early America's Minute-Men</a:t>
            </a: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. Archiving Early America, 1 Jan. 2011.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Web. 10 Apr. 2011. &lt;http://earlyamerica.com/about-us.html&gt;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0:48:27Z</dcterms:created>
  <dc:creator>Eason Jordan</dc:creator>
  <dc:description/>
  <dc:language>en-US</dc:language>
  <cp:lastModifiedBy>WA</cp:lastModifiedBy>
  <dcterms:modified xsi:type="dcterms:W3CDTF">2011-04-11T15:42:51Z</dcterms:modified>
  <cp:revision>16</cp:revision>
  <dc:subject/>
  <dc:title>Minutemen</dc:title>
</cp:coreProperties>
</file>